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18470"/>
        <c:axId val="99736939"/>
      </c:barChart>
      <c:catAx>
        <c:axId val="28818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36939"/>
        <c:crosses val="autoZero"/>
        <c:auto val="1"/>
        <c:lblAlgn val="ctr"/>
        <c:lblOffset val="100"/>
        <c:noMultiLvlLbl val="0"/>
      </c:catAx>
      <c:valAx>
        <c:axId val="99736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18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197-C97D-4C81-B3D6-628B3D23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4D3-C654-4F7E-A2EE-99AC8DD9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F7E-3A5F-4365-BAAE-7A030D8C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F37-F343-4458-8403-E22DDEE4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965-DE90-4C5C-92B9-A76C3F67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0AE-5ECD-49D8-9D5D-4AB151D4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913-9A12-4350-AE3F-9771560C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1EA-94A4-424B-A089-AF371036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498-471E-4D67-8905-11A6A871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447-4A28-414F-B6FA-7A318680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8D9-BA05-4FC6-BF7E-3C53D9C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49F-4071-437E-B68A-44977CCC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37B03-A983-47DD-8C13-E9F059CAA5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