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11440"/>
        <c:axId val="16963917"/>
      </c:barChart>
      <c:catAx>
        <c:axId val="68611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63917"/>
        <c:crosses val="autoZero"/>
        <c:auto val="1"/>
        <c:lblAlgn val="ctr"/>
        <c:lblOffset val="100"/>
        <c:noMultiLvlLbl val="0"/>
      </c:catAx>
      <c:valAx>
        <c:axId val="169639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11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93E-F384-4760-8677-09AC571E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08AD-FB5C-4E33-9B50-CAC84AB3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018-B7AC-489E-9198-F41AC206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C8F-9CB8-4400-9CC1-75AC42CB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D22-D683-418E-9476-713E1570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237-EC91-4CD0-BC87-002AAD06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1F55-C530-4F95-8328-4A643F30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A82A-AB38-49DD-8110-C21E7C07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91F-AF1B-45BF-8E7E-A1528340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A3EA-0636-48D8-A1D9-8BDC83A7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C447-C01E-4A7B-9352-B9152EE4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BC2-EFCB-4746-9DDE-C8EE6FE7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3B44F-155E-452A-A731-44CD63876D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