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51005"/>
        <c:axId val="17139650"/>
      </c:barChart>
      <c:catAx>
        <c:axId val="59051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39650"/>
        <c:crosses val="autoZero"/>
        <c:auto val="1"/>
        <c:lblAlgn val="ctr"/>
        <c:lblOffset val="100"/>
        <c:noMultiLvlLbl val="0"/>
      </c:catAx>
      <c:valAx>
        <c:axId val="17139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51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F80-B77E-4BC0-98C1-2537C689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4A3-0365-48F2-A73E-C91B81E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1F6-0FC3-498F-8C18-09340103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60E-896C-4A3A-A543-EC51B66C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A6A-5E83-4063-A9B7-0FD7D807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950-35DF-4E9B-AE95-36C6EF3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252-8D9B-45E7-BC6E-D0C2A902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C00-F729-4781-BD5F-6772A8F0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969-F10A-4029-A6E1-3F8F6102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A16-9783-4E5D-AD3B-9A71389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8C1-034D-4E1B-BB26-39FDDD0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31C-F045-40C4-8249-902A921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E1395-D126-48E3-AACC-CC1D5A911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