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53453"/>
        <c:axId val="981679"/>
      </c:barChart>
      <c:catAx>
        <c:axId val="10653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79"/>
        <c:crosses val="autoZero"/>
        <c:auto val="1"/>
        <c:lblAlgn val="ctr"/>
        <c:lblOffset val="100"/>
        <c:noMultiLvlLbl val="0"/>
      </c:catAx>
      <c:valAx>
        <c:axId val="981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3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EEF-A126-43C5-A40B-D4451E1E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329-E4E6-4D86-AA0A-AEA0711D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D64-2543-4180-A832-15714191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4AD-AD77-48E1-B96E-7AAA0E26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8F0-86E1-4E61-9D78-5784928F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7EB-2303-4B5A-AFC8-BDEE55EB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C18-82F1-4745-ADA3-A1A715F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9F1-52A0-4D15-AADA-C50CA07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4F5-41FC-4803-B828-7B15E3E3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8C4-6BB1-4763-9822-09EB4C8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3FF-C5EC-43F6-A9E6-CCD32EE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F19-E83C-439F-BFF2-86AC548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E1590-1CAB-48CE-9532-39222559DA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