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58145"/>
        <c:axId val="87005100"/>
      </c:barChart>
      <c:catAx>
        <c:axId val="54458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05100"/>
        <c:crosses val="autoZero"/>
        <c:auto val="1"/>
        <c:lblAlgn val="ctr"/>
        <c:lblOffset val="100"/>
        <c:noMultiLvlLbl val="0"/>
      </c:catAx>
      <c:valAx>
        <c:axId val="87005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58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741-718B-4AE9-9B77-5109BB88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CEB-288B-4A5A-B4C6-70ABD365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402-B727-45D3-A2D1-9DA8B914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6D6-5386-4A13-8E29-79BF0AAC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42C-7DD5-4A66-8EBA-007DA29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230-1064-482B-B44F-7BDB6903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30F-1F4B-4206-AD65-B015740E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85B-B513-4B2B-ABBD-D12BDEA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D02-A600-4E05-AC10-A7C2544C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07E-6805-41F0-8E14-21D56D96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6FF-9C8E-409F-A380-25154B86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357-23D9-4FBD-B912-5D034D3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629DE-13CB-485A-BC27-12DFBE9FAE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