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97328"/>
        <c:axId val="27739406"/>
      </c:barChart>
      <c:catAx>
        <c:axId val="57597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39406"/>
        <c:crosses val="autoZero"/>
        <c:auto val="1"/>
        <c:lblAlgn val="ctr"/>
        <c:lblOffset val="100"/>
        <c:noMultiLvlLbl val="0"/>
      </c:catAx>
      <c:valAx>
        <c:axId val="27739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97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32D-6DBB-4835-B6E4-6AED0592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9C4-467B-44CF-81E8-93E98D2F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022-FE19-4A15-9FB1-D9C51617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FDA-FDD1-416E-B0C7-3C1A4219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100-FF1C-4366-BFA5-F5CA9308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2E6-6F6E-450B-8981-E676B2B3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D51-B1FA-4615-8CC0-87B93B07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E82-98FD-4EDE-A3A2-02932A12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4DE-8E8B-4325-9114-14669788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D6A-736D-4A74-82D7-EFE5B170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D20-9769-4574-B6CF-E6FE2C63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5AD-5512-43F1-B27F-7C8AE829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823CA-4A65-4EC4-8923-35B9476815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