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12318"/>
        <c:axId val="74857339"/>
      </c:barChart>
      <c:catAx>
        <c:axId val="18412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57339"/>
        <c:crosses val="autoZero"/>
        <c:auto val="1"/>
        <c:lblAlgn val="ctr"/>
        <c:lblOffset val="100"/>
        <c:noMultiLvlLbl val="0"/>
      </c:catAx>
      <c:valAx>
        <c:axId val="74857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12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1BC-C1E9-4864-BB90-872227F0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815-89C9-44BF-9C91-328C1267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718-CEBD-46E8-9A84-840FF0ED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594-0B1B-46D5-801B-558BF5EE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551-BB70-48E6-A624-878DA56C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3DA-1391-4B87-8476-FF1B9711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2954-2A11-46B9-B179-B02BC84B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A65-E48E-4FDB-9A80-20CFD06E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567-7617-42F8-9734-243A973D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71F-6B09-444E-B253-7BF4C08E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FE2-33A6-487D-B402-A9BD5286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B78-59B3-4F96-90EB-5E08288D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AEDB2-6DAD-47C7-8310-93EE6F3245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