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730462"/>
        <c:axId val="7821549"/>
      </c:barChart>
      <c:catAx>
        <c:axId val="707304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1549"/>
        <c:crosses val="autoZero"/>
        <c:auto val="1"/>
        <c:lblAlgn val="ctr"/>
        <c:lblOffset val="100"/>
        <c:noMultiLvlLbl val="0"/>
      </c:catAx>
      <c:valAx>
        <c:axId val="78215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304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4394-9123-41EE-9CA2-E5AE3C48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FD19-D3F0-46FD-AB3D-933F7CA4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4157-61F3-4558-B147-F943702E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2082-B172-442A-AC42-80372C0E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6687-C8D1-4762-811C-DC6C4490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F294-CD47-43A5-8383-56415FEC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0E29-B6E5-4D68-87CF-8BE4B4B4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56C5-2170-442C-9869-6B91799C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169A-2314-4888-BF1A-8D28E7C45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4AC2-E286-4710-819B-66640595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AADB-ABC8-4B95-B56E-572D86C32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406D-1F86-4D57-93CA-4CE430F8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94CB2-E3FC-4992-9C26-6409B0142D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