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070331"/>
        <c:axId val="14372076"/>
      </c:barChart>
      <c:catAx>
        <c:axId val="500703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72076"/>
        <c:crosses val="autoZero"/>
        <c:auto val="1"/>
        <c:lblAlgn val="ctr"/>
        <c:lblOffset val="100"/>
        <c:noMultiLvlLbl val="0"/>
      </c:catAx>
      <c:valAx>
        <c:axId val="14372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703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AD1-1DDC-4D1D-84F9-50753793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BE5-8458-4EF1-882E-1BCE8A18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C2F-9DF5-44F6-8B71-758ED8D7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E8A-AE1F-4888-B765-83D46C9B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6E4-F8A5-4717-9291-57457046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CFD-351B-41CF-84DD-96568EC2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B2F-871A-47B0-B0F1-1A778A01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3B3-E7B8-492A-B180-5BA10BA9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015-EFE5-44A1-8F53-31E5EDDF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832B-46B2-406A-B786-6199907D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B31-D910-46D7-8337-68CB09A9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184-0CCB-4553-B053-04D471B9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2C53D-7633-437B-9F5D-375FA7A6D0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