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1273"/>
        <c:axId val="23161155"/>
      </c:barChart>
      <c:catAx>
        <c:axId val="1118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1155"/>
        <c:crosses val="autoZero"/>
        <c:auto val="1"/>
        <c:lblAlgn val="ctr"/>
        <c:lblOffset val="100"/>
        <c:noMultiLvlLbl val="0"/>
      </c:catAx>
      <c:valAx>
        <c:axId val="23161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1BB-AA12-465D-9BE4-B4D20022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89D-18DA-463D-B135-458014A1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2F7-06DE-4F9C-8CB2-76BF183B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C0-A13D-4BA8-B171-9A8F8FAA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83E-332C-49B4-89A5-30021CA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491-6FDC-4EDA-AF8A-07ACF1FD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529-F13C-4FD1-9EBB-7286199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EE8-D798-4959-87FE-723907C5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343-D2D9-4AE4-B142-AD38C35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47D-3AFA-4F5A-99EC-DB26C77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581-C263-49D8-ADA4-C299E9D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1D3-EC58-4A88-BB4D-37B7FAB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FD40A-386F-4AC1-AD92-39804DE4C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