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48337"/>
        <c:axId val="98332802"/>
      </c:barChart>
      <c:catAx>
        <c:axId val="89948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32802"/>
        <c:crosses val="autoZero"/>
        <c:auto val="1"/>
        <c:lblAlgn val="ctr"/>
        <c:lblOffset val="100"/>
        <c:noMultiLvlLbl val="0"/>
      </c:catAx>
      <c:valAx>
        <c:axId val="98332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48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20F-FBA8-4F46-95FD-DB9CC630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D8D-556D-459E-B3C2-86294905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6DA-BB8F-4228-B37B-9ADC2F44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98E-51CD-4140-99AD-7E3E0FA8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61A-5259-488B-B86B-918A3668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0CB-8B3D-4745-9EB3-C2E10E21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081-C04C-4EA9-BEFB-C60AC443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A47-D62B-4336-9E98-77E3E278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F61-30EF-4035-B22D-7B922592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356-7E09-4B3A-8CE9-1EB1FBA7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3B0-E6A1-4F05-A119-D23E1427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D2B-B5B9-4B65-93B1-674B541C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58DF0-568E-4416-8FC8-A335356A8E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