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3800434"/>
        <c:axId val="15275539"/>
      </c:barChart>
      <c:catAx>
        <c:axId val="6380043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275539"/>
        <c:crosses val="autoZero"/>
        <c:auto val="1"/>
        <c:lblAlgn val="ctr"/>
        <c:lblOffset val="100"/>
        <c:noMultiLvlLbl val="0"/>
      </c:catAx>
      <c:valAx>
        <c:axId val="1527553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80043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47016-B739-4673-8ACD-F66784DCB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C8AC0-5493-4E50-9D02-6EEBCF18F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9FF54-EA20-4D21-B7BE-BE492EA30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BF802-8A65-4E9D-BB9C-4231A8E1C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AA576-9483-4BA0-BDD5-DFC27EA8E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2AE1E-662A-4D47-ACA8-CBCC7D49F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92043-F339-4A2B-96F5-E6CF2F483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FCB18-55A7-4C33-B340-DEBC22394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53DFE-2595-41B6-A83B-E27A31296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1A3D5-D709-417A-A5DD-22908CC76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26984-2EBB-4DE2-B48C-DCEF354D6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03147-D18A-469F-997B-17D1E1489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67CEC7-0158-445B-878A-FAFD49A11DC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