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46657"/>
        <c:axId val="69017267"/>
      </c:barChart>
      <c:catAx>
        <c:axId val="53946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7267"/>
        <c:crosses val="autoZero"/>
        <c:auto val="1"/>
        <c:lblAlgn val="ctr"/>
        <c:lblOffset val="100"/>
        <c:noMultiLvlLbl val="0"/>
      </c:catAx>
      <c:valAx>
        <c:axId val="69017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46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181-1549-4F2B-8DA1-9896060D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DF8-15D5-4BFC-8054-195E6F93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491-C05F-4136-AD72-6B84CA14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33F-8CD0-47F4-9FBA-BE913997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EE0-4808-40FF-949A-898A9DC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F2D-8526-4351-94CB-50873B7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FCC-AAE4-441C-8A6B-84DD23C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5E0-DA36-4AEA-826B-822B4F44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9C6-6FD9-4D41-9C7E-E1417F6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ECF-25CD-4FF3-899F-9110C75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887-8AC3-492D-8540-209D83A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290-AED1-4463-AF7D-DF0C1EB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865D-C1CA-4554-8CD7-276094F15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