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391821"/>
        <c:axId val="34029183"/>
      </c:barChart>
      <c:catAx>
        <c:axId val="82391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029183"/>
        <c:crosses val="autoZero"/>
        <c:auto val="1"/>
        <c:lblAlgn val="ctr"/>
        <c:lblOffset val="100"/>
        <c:noMultiLvlLbl val="0"/>
      </c:catAx>
      <c:valAx>
        <c:axId val="3402918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91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F8D0-DEB1-4C37-AD43-68512F4AD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65D-96C3-4BBE-B6FD-E0183536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D052-246C-4D55-AE7C-845134BE8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F83A-2625-4E5E-8B1B-E68022CA9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7BF47-E4BB-4629-8365-11391A046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23EB-FF52-4F12-B1CB-DC3363F9F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37ED-4751-4902-A5A0-856D37681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20EE-898E-4C10-9CB4-EB4B282F9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64963-A13A-4FD1-899A-39448EC8F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B7C7-A452-41FF-AA43-CE3E30D34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37195-E4ED-4D9B-8462-60597E74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D4E4-BC7A-4644-AE3D-3A50EDD46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CEC45B-2DAE-45C4-8DA6-83CB336AC6E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