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6137"/>
        <c:axId val="62737421"/>
      </c:barChart>
      <c:catAx>
        <c:axId val="28061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37421"/>
        <c:crosses val="autoZero"/>
        <c:auto val="1"/>
        <c:lblAlgn val="ctr"/>
        <c:lblOffset val="100"/>
        <c:noMultiLvlLbl val="0"/>
      </c:catAx>
      <c:valAx>
        <c:axId val="62737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61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FB22-8DE2-49E1-966F-60D5C939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1AC-62AC-4C03-8B4C-3DC906D2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1545-6842-4765-892C-379AE2E1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DCC-D2AB-472F-BD02-0D0A7A36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01F-E1A7-4872-9440-E6638396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111-757F-4EB1-BFF3-481D37AA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B7D-5D27-412A-B532-047E352C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E3A-A286-431C-9F93-FC75DD0F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7E1-DA97-42B3-B181-F1F5AF4B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E78-5CA5-4C69-A665-130551D6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3DE-393A-4838-A9A1-8235BA1A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933C-610C-4541-A16C-15F38A8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F9BA2-7951-41DF-9DEC-1E43B6440B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