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06190"/>
        <c:axId val="47543892"/>
      </c:barChart>
      <c:catAx>
        <c:axId val="22706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43892"/>
        <c:crosses val="autoZero"/>
        <c:auto val="1"/>
        <c:lblAlgn val="ctr"/>
        <c:lblOffset val="100"/>
        <c:noMultiLvlLbl val="0"/>
      </c:catAx>
      <c:valAx>
        <c:axId val="47543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06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C72-72E2-4121-8A08-49995D95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A58-3AC0-4BC6-847F-09E5082C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E00-7225-464B-BF06-5EEB483B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A1B-0FE4-4686-8358-26014826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152-D998-47AE-B7F6-4EAF2D33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4B2-4EE4-4E7C-8767-99C6C5CC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240-C175-4766-9DED-C0C75D68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897-6E70-4F80-9448-37C01591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90DF-882D-4158-BD03-8158964D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9D9-EB28-475D-9FFF-8009696A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2F3-9115-45A4-8403-0962226F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0B7-AF68-4AB3-92CB-68CA1F09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6A310-4231-4BD5-9C33-5320DDB585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