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31249"/>
        <c:axId val="32009882"/>
      </c:barChart>
      <c:catAx>
        <c:axId val="804312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09882"/>
        <c:crosses val="autoZero"/>
        <c:auto val="1"/>
        <c:lblAlgn val="ctr"/>
        <c:lblOffset val="100"/>
        <c:noMultiLvlLbl val="0"/>
      </c:catAx>
      <c:valAx>
        <c:axId val="32009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312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9F3-F160-4343-81AE-47534990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E9C8-FEB8-41DD-8685-E1FEDABB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ECB-D47E-43A0-9C87-23FF1D88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56B-F0B3-45C6-97BE-8812D69C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0C9-2675-4785-A8AE-A141D44F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2DD-A5C6-4E63-8CAA-E9AC4870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C24-7A9F-4126-A06E-5DCC7D1E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1446-2045-4799-BD57-5D497F6E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D84-1DB9-4DC2-9F19-D65476A4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F19-95B3-4099-AF0B-45559F55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9E80-0E7F-415C-8440-150AC9B5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C89-A4F0-49B5-AB26-64500781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C0BCB-85F3-4CBD-AAA9-A98EA42A1E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