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29266"/>
        <c:axId val="13665"/>
      </c:barChart>
      <c:catAx>
        <c:axId val="62729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65"/>
        <c:crosses val="autoZero"/>
        <c:auto val="1"/>
        <c:lblAlgn val="ctr"/>
        <c:lblOffset val="100"/>
        <c:noMultiLvlLbl val="0"/>
      </c:catAx>
      <c:valAx>
        <c:axId val="13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9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8CB-D65A-405E-A964-3EC8428B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C43-7E53-44BE-856E-2098EC31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0E5-B956-4A6B-9E94-0EB49ADA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BD0-AD78-4BB9-BB7A-5B4AA243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9B9-D77E-472A-BEBB-A733F3E2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33A-B6F0-4965-8DCB-00ADFEE2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5C7-26E6-4E37-A81E-AD42903B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7CA-55A9-4B7C-84F1-EBFA1FE6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8D3-90E5-4C80-9AAC-6F633A0D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CB6-589F-4F1D-AFC7-D8CDE58A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65F-70A7-4E7F-96DD-5C4C8AC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A8A-B1E8-46F0-8086-8770CC2F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57EAF-E829-44C8-9F81-A4EC6E2CD0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