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90752"/>
        <c:axId val="17362975"/>
      </c:barChart>
      <c:catAx>
        <c:axId val="74990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62975"/>
        <c:crosses val="autoZero"/>
        <c:auto val="1"/>
        <c:lblAlgn val="ctr"/>
        <c:lblOffset val="100"/>
        <c:noMultiLvlLbl val="0"/>
      </c:catAx>
      <c:valAx>
        <c:axId val="17362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90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4F2-94DC-45B9-9AFB-973567C8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193-AACD-4E3A-8F92-8B8B2822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F7D-9FB7-49AD-81AD-C2A956B5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E31-1EC3-4C08-A6E5-19DE57BC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655-14DF-4927-819C-DF19E2DF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152-EB28-462D-BAC4-5977B166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A45-004B-4B53-B919-9E405837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C48-CFFD-47FC-834D-96B6CD9F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E274-98DF-4313-8DDD-38554897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F05-C5A5-45B7-A6C9-D1B43FFC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173-BCC6-4551-88F6-965D4E99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A0F0-3DAD-4970-A7FE-71F7BA2A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E5195-E8FB-4CC6-8569-9A0A5C7D7C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