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83608"/>
        <c:axId val="13856470"/>
      </c:barChart>
      <c:catAx>
        <c:axId val="19783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56470"/>
        <c:crosses val="autoZero"/>
        <c:auto val="1"/>
        <c:lblAlgn val="ctr"/>
        <c:lblOffset val="100"/>
        <c:noMultiLvlLbl val="0"/>
      </c:catAx>
      <c:valAx>
        <c:axId val="13856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83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BF6-E9A0-4600-8BD2-067F740C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C6D-22BF-496D-93FF-0023D274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351-80C8-4D76-8433-75467C06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51A-F1B5-4FB1-AE81-23A10B9A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62D-DAA6-4468-89A0-4ED9807C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9F2-910F-4C48-A66B-57C36494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F5E-959D-464C-8F1C-F80822C3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AF8-A2F7-46D7-9C65-BEE27FBB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3C9-8196-4208-908C-99B0CAE4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787-D7F0-4922-8B99-77CCC091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259-8A93-4C79-A69F-F358983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6D4-6E45-4EC9-85D8-AB58C96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5DEC6-7448-4208-87BF-F9F83FC93A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