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159328"/>
        <c:axId val="59726410"/>
      </c:barChart>
      <c:catAx>
        <c:axId val="111593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726410"/>
        <c:crosses val="autoZero"/>
        <c:auto val="1"/>
        <c:lblAlgn val="ctr"/>
        <c:lblOffset val="100"/>
        <c:noMultiLvlLbl val="0"/>
      </c:catAx>
      <c:valAx>
        <c:axId val="597264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1593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067C-27D7-4CC7-9570-53231228C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AC34-565E-4578-8B0B-2CBAD6435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4053-0A01-42E7-803D-2FB810366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BDC6-8136-48F3-9FA1-AEE30B499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3086-CE9C-4DC0-BE43-67D929454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6E69-DCB8-4A91-A52E-38D50D6D1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E23A-1F86-436A-A98E-810EE843E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5820-2095-424A-9D39-405FB3D29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AAEE-5B22-430B-9C9C-C8831DFB2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A8F0-069C-472A-933A-09781720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9A96-9C7D-4296-98AE-444C7719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3BB8-B6E0-489F-9E31-A91E8A5F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95BE4E-FAE3-45ED-B4CD-8A4BB81C5A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