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82768"/>
        <c:axId val="14584439"/>
      </c:barChart>
      <c:catAx>
        <c:axId val="18882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4439"/>
        <c:crosses val="autoZero"/>
        <c:auto val="1"/>
        <c:lblAlgn val="ctr"/>
        <c:lblOffset val="100"/>
        <c:noMultiLvlLbl val="0"/>
      </c:catAx>
      <c:valAx>
        <c:axId val="14584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2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BA2-46DF-4E2E-A741-E2ADAE5F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B38-67F7-437A-8AEE-D1312CA5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E9C-D630-41A6-8740-786FA41F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997-44CE-4D95-AB08-AF31CE2F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737-3790-4661-8D82-D91F8F54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AE7-5A00-45FF-888D-F6253A5D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C3E-547C-41AC-8934-AEE10B69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5DB-8AC2-4F6E-B26A-0E330862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024-D252-424E-A8FE-C1CDD46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9B7-5C59-455D-8329-A5E6202C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3EC-8375-4E97-B555-8AD6E40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D69-D8D6-4E54-A35D-0A31B1B4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0D785-8876-48A8-81D8-EFA24742F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