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60083"/>
        <c:axId val="36711435"/>
      </c:barChart>
      <c:catAx>
        <c:axId val="69360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11435"/>
        <c:crosses val="autoZero"/>
        <c:auto val="1"/>
        <c:lblAlgn val="ctr"/>
        <c:lblOffset val="100"/>
        <c:noMultiLvlLbl val="0"/>
      </c:catAx>
      <c:valAx>
        <c:axId val="36711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60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68E-17A4-4F4C-9972-61E7DF04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5B6-E323-41A4-B805-0C53A1EE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193-A263-4F33-9CF5-FCC220C2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7E4-0889-4BB3-AF77-AFDC6896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802-3F0C-42D8-885E-EC2A1C2D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DA3-ED09-4C87-9AF0-074BE220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F7D-8216-4B3C-B23A-0346E51B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37C-4245-413B-8989-5364A6AF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8C5-E3D2-4F1C-9352-AB9B9CE4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77D-7685-4689-9D68-12C29A7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E8A-31EE-4B2A-9390-3A3DCF79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91F-3EA3-43F3-A46E-61BA45D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BE7DE-0554-4E26-9085-F3354A3FD5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