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23428"/>
        <c:axId val="86470429"/>
      </c:barChart>
      <c:catAx>
        <c:axId val="802234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70429"/>
        <c:crosses val="autoZero"/>
        <c:auto val="1"/>
        <c:lblAlgn val="ctr"/>
        <c:lblOffset val="100"/>
        <c:noMultiLvlLbl val="0"/>
      </c:catAx>
      <c:valAx>
        <c:axId val="86470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23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8A2D-E697-4E0E-9313-1BB3CAE7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279-C6A9-4E02-A603-86B0A2CE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553-F806-4CF2-96F9-EF3A2F7B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71B-6B51-4935-90AD-7BC52B45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E360-DDE5-476C-85E5-2BA7A569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2B24-E35F-4ED8-B791-B3D303FD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3E23-934B-4523-8C9A-874202A2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3220-5C57-4618-80A1-4AD60403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A47-411D-497E-B1BB-5EF0C544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D18-04F8-48CE-8917-CE25A3DB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BA6-D529-4B72-9978-0B0EDA1A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3AD-EF7F-45D4-B092-2AA7B7F4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AD1F2-A278-4CB1-9135-F6E42210F7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