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26828"/>
        <c:axId val="1807874"/>
      </c:barChart>
      <c:catAx>
        <c:axId val="18326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874"/>
        <c:crosses val="autoZero"/>
        <c:auto val="1"/>
        <c:lblAlgn val="ctr"/>
        <c:lblOffset val="100"/>
        <c:noMultiLvlLbl val="0"/>
      </c:catAx>
      <c:valAx>
        <c:axId val="1807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6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E1C-71E7-4A4D-9630-A2999E7E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6E5-FAE5-4F69-87CE-81BAACD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F19-18F9-48AC-81AF-A31D3E6F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D97-A5D7-4900-9653-941223EE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C2E-7BAB-4F72-9F7A-1344B833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A02-37AF-44F3-B5F9-6E6E0A9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60F-A2BC-417F-8191-EE4DAA7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E5B-9969-44ED-B12A-16617A29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E79-4FC0-414F-8855-C413915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E69-8422-4639-86A8-9485B50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65A-BD6E-46DF-9C10-84D6139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723-962B-42F2-8961-072E693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7C756-2393-4FA1-A5E8-C404B4D0C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