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77795"/>
        <c:axId val="27357521"/>
      </c:barChart>
      <c:catAx>
        <c:axId val="90077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57521"/>
        <c:crosses val="autoZero"/>
        <c:auto val="1"/>
        <c:lblAlgn val="ctr"/>
        <c:lblOffset val="100"/>
        <c:noMultiLvlLbl val="0"/>
      </c:catAx>
      <c:valAx>
        <c:axId val="27357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77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B36-AC83-498E-AD0B-BF108664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FED-87A2-4EB0-909C-BAFA3B1A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269-FD54-472F-B8AC-7E425D7D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C65-7690-412D-8F80-2F15EEA2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8E6-0CE6-4403-B924-15A9B985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4FE-C97E-47B8-BB46-2FB0F9B0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268-A1A1-4605-B968-27E15BCB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127-1A3B-4F19-876A-C5A25471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984-6B9F-490D-A5AC-01614544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90C-7040-482F-8903-83389001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DCF-0872-4567-9B6E-C48F6152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26A-2907-4DD9-A767-224012C6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6AE7E-DF48-44DB-AD25-5B2DF38A77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