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653844"/>
        <c:axId val="93394346"/>
      </c:barChart>
      <c:catAx>
        <c:axId val="346538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94346"/>
        <c:crosses val="autoZero"/>
        <c:auto val="1"/>
        <c:lblAlgn val="ctr"/>
        <c:lblOffset val="100"/>
        <c:noMultiLvlLbl val="0"/>
      </c:catAx>
      <c:valAx>
        <c:axId val="933943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538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C573-21E5-4DDC-A81F-B4173BBD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43F7-29E1-4C4D-A17E-1B076019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FB0B-5221-4BF0-8450-E3D01EB9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1B0D-9CC3-4383-9407-DACF5E90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6104-0A50-47D5-BCCA-8403B931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A7E1-973E-4BCC-A652-21E9B705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2E45-3B7C-4622-8BB5-1DA4573E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6AD1-1F45-4591-8B8B-180EE1E0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6861-20F2-45A4-8D07-68E8F573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33E2-ADBD-401E-A167-C7732AE6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07E3-2FDF-4868-A1D9-0C4A02EE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B427-1C64-4A9B-936E-72299A3F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F146D-69C7-45D1-8AB7-296FAF32AF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