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3296"/>
        <c:axId val="35302410"/>
      </c:barChart>
      <c:catAx>
        <c:axId val="6183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02410"/>
        <c:crosses val="autoZero"/>
        <c:auto val="1"/>
        <c:lblAlgn val="ctr"/>
        <c:lblOffset val="100"/>
        <c:noMultiLvlLbl val="0"/>
      </c:catAx>
      <c:valAx>
        <c:axId val="35302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991-5C96-4AB3-824F-E985DBB7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7C8-0423-4D55-8A51-3C75FDBB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6B4-8F08-4418-9AD0-2ABEC61B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552-8BDD-4579-B287-D709DD25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1CE-43D9-426F-A5CC-3164E82D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CA1-5DEE-4F70-BA43-F98AB2F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1F3-0CAB-4ECC-B4F5-C162B0A5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FA7-2C6B-451A-92BC-DBBDEA35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C46-ACCB-4B08-A1C9-4FC8FC1E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DD3-5AD8-4DC1-80E5-5908A95F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17F-6489-4037-8CF6-975243C9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5E7-F6F9-41A3-9953-091C3B60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5203D-7FB2-43CA-BFBB-E7FDAA9088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