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57087"/>
        <c:axId val="2126058"/>
      </c:barChart>
      <c:catAx>
        <c:axId val="78957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6058"/>
        <c:crosses val="autoZero"/>
        <c:auto val="1"/>
        <c:lblAlgn val="ctr"/>
        <c:lblOffset val="100"/>
        <c:noMultiLvlLbl val="0"/>
      </c:catAx>
      <c:valAx>
        <c:axId val="2126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57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F69-6A10-4A2A-9E23-94AD7A4C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3FA-A940-49A1-A570-6618AC41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4682-E4EF-43D6-A6CF-26310382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944-7E81-4754-91D6-382B6AAC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CB1-A7C6-4060-8E66-869FA10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12-982B-459E-BE11-C51BAD65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BA4-CF56-4A4E-AF78-E790AD2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6B6-5169-4111-995E-5AD6D06B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0ED-6ED4-42F1-AEA1-5ABA952B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A3B-BB70-44FD-9C2C-50B2A8B1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1A1-0E69-4660-B70C-D3928B6A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2FC-14F9-4723-805F-FC1B8208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747F1-391D-44F2-88D6-CF685183D2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