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30461"/>
        <c:axId val="89325461"/>
      </c:barChart>
      <c:catAx>
        <c:axId val="30304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25461"/>
        <c:crosses val="autoZero"/>
        <c:auto val="1"/>
        <c:lblAlgn val="ctr"/>
        <c:lblOffset val="100"/>
        <c:noMultiLvlLbl val="0"/>
      </c:catAx>
      <c:valAx>
        <c:axId val="89325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04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10B-6344-4833-9BE3-70A71E42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9137-8431-40BD-92C7-2296A667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C36-8648-488B-9426-5281D9BF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9CA4-3605-4C85-8772-C298B9E1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A149-8447-4757-A7DC-1BD13723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2EEC-31F7-4B7E-83DD-87512B29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C749-8A8A-4870-9E6A-6A4A6B47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E15-FC52-4FCB-9267-B4F1AA49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0965-90CE-4BBF-B515-C069A42B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BEC2-0969-4772-B838-8D23135C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0FA-1F6B-46DD-B776-53799CC2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FD5-A2A7-48DB-A882-0B0087B3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EFFC3-7C8A-4FAA-A907-B27D5D555E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