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86902"/>
        <c:axId val="41580445"/>
      </c:barChart>
      <c:catAx>
        <c:axId val="36486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80445"/>
        <c:crosses val="autoZero"/>
        <c:auto val="1"/>
        <c:lblAlgn val="ctr"/>
        <c:lblOffset val="100"/>
        <c:noMultiLvlLbl val="0"/>
      </c:catAx>
      <c:valAx>
        <c:axId val="41580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86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5C8-BCE5-4792-B1F9-54206847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EAE-1076-4BA1-9442-189E4BE0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5E3-05D1-4DDD-BE7E-0C18BD57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E48-3FCB-4534-822F-1AB9E21D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A08-A9F2-49A8-8CD5-DF78769F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865-180C-4B55-B718-1DA8F0E1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0BD-DBA8-4B88-8501-4BB1F59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DDC-AB6E-428D-8BF2-0DDFC213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01D-ED3F-46D2-BA29-9E5191EE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93B-7C99-438B-97CD-C10D0B14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E08-3BB4-4D38-94DE-AACA31CB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2F4-1B07-426F-9A45-6C1D28A6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C76D3-7AD2-4312-958F-C9863ACC1D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