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64454"/>
        <c:axId val="10847981"/>
      </c:barChart>
      <c:catAx>
        <c:axId val="56644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47981"/>
        <c:crosses val="autoZero"/>
        <c:auto val="1"/>
        <c:lblAlgn val="ctr"/>
        <c:lblOffset val="100"/>
        <c:noMultiLvlLbl val="0"/>
      </c:catAx>
      <c:valAx>
        <c:axId val="108479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44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4DF1-A6AC-4DED-B445-BD3C898B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9D4-C44C-4218-B816-DCBE01A6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F9F-5F78-4555-8FA0-77077B58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2F6-41DA-4884-AB38-A6F8B36F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3948-E2E6-4048-8A01-6A5A3F88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DB7-D510-49E2-A802-6940332F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79F-51DC-444A-90E7-621A37FE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C09-7E73-4E55-B2C4-AEC82F367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8B09-ADA5-4B1B-80CA-AD0EF1E1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C833-2612-4822-A271-5D7239A4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258F-2D94-42A5-812C-09D7045D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35C2-9AD1-44FA-83CC-991FC120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CFBD6-2304-43AD-AA28-BA58210172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