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21525"/>
        <c:axId val="61398515"/>
      </c:barChart>
      <c:catAx>
        <c:axId val="1802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98515"/>
        <c:crosses val="autoZero"/>
        <c:auto val="1"/>
        <c:lblAlgn val="ctr"/>
        <c:lblOffset val="100"/>
        <c:noMultiLvlLbl val="0"/>
      </c:catAx>
      <c:valAx>
        <c:axId val="61398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2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19A-D58F-487D-BC76-D922772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644-D339-4B7E-AF37-5B5997E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0C1-F704-4BE3-8A49-19D6EBB0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401-C95E-45F2-8E77-F00BEABB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BD6-9505-4C29-8EFE-D9BD224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E8E-B2DB-43CB-AA65-86B040C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C7E-B88F-47CA-B7F4-D5C8AAD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06E-4A41-41B2-8690-E76990A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43F-6B1A-4FD5-B26E-59F3D008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6D3-61AE-41DC-AEEE-436B999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EC3-6F31-46E1-8343-90BD6F3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03E-0408-4018-B916-FF4E56F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0D74B-4A5E-445A-851F-F24E680BD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