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81156"/>
        <c:axId val="41010535"/>
      </c:barChart>
      <c:catAx>
        <c:axId val="89981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10535"/>
        <c:crosses val="autoZero"/>
        <c:auto val="1"/>
        <c:lblAlgn val="ctr"/>
        <c:lblOffset val="100"/>
        <c:noMultiLvlLbl val="0"/>
      </c:catAx>
      <c:valAx>
        <c:axId val="41010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81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5FB-F6AC-4A54-B0A0-88F4B128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007-ABB6-4401-AA47-36CD752A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3A3C-52D6-4FF2-BFD4-68415B90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DED-F4FA-47B5-A599-8EF9B8EE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1550-B896-4FD5-8A2D-0DA79035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C5C-B896-4D5D-9EE6-00AE79C6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A6C-3E5C-43DA-9E00-1C0D502B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404-AD1C-4DD5-BC3B-4FB88F65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1CA-7D57-45CB-B740-2E15A2E6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DCD2-D7C3-43D9-BA9F-A5C5DFCA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C722-0664-4335-B109-069E46B1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B81-B861-4FD3-A855-99D9F6E0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9517C-12EE-4132-83B7-BAAF6E2F1C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