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83764"/>
        <c:axId val="28205724"/>
      </c:barChart>
      <c:catAx>
        <c:axId val="74983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05724"/>
        <c:crosses val="autoZero"/>
        <c:auto val="1"/>
        <c:lblAlgn val="ctr"/>
        <c:lblOffset val="100"/>
        <c:noMultiLvlLbl val="0"/>
      </c:catAx>
      <c:valAx>
        <c:axId val="282057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83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99F-6E00-4E92-93C6-72747732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C70A-F3F3-4606-80E3-641B0959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C762-418C-4038-8E90-C4D6D577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D25-0A14-4406-8733-08FDC3B6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0C2-EACD-48AC-B985-6091D5F8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228-AB25-4464-89BE-15879E7D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A24-AF94-460C-ACDE-C4CEB7AC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23C-33C4-4441-8A81-CB32EB17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EB3-6491-4D3C-AB84-F39225DC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701-A321-4CAE-8DA8-1CF4C58D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351-4BB3-4813-98B4-D9F51862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A6A-8CA8-4001-85D7-0D6008CB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D031F-7F86-498A-9D6B-0CD578A864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