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92187"/>
        <c:axId val="85311976"/>
      </c:barChart>
      <c:catAx>
        <c:axId val="21592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11976"/>
        <c:crosses val="autoZero"/>
        <c:auto val="1"/>
        <c:lblAlgn val="ctr"/>
        <c:lblOffset val="100"/>
        <c:noMultiLvlLbl val="0"/>
      </c:catAx>
      <c:valAx>
        <c:axId val="85311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92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CC6-E89C-41A4-BC2F-E21E9292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623-6410-41FD-BA51-64D41D99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A6C-0D22-4143-9FA9-48D12524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07F-0610-4809-8855-CCCD8354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1D7-059A-4C19-B11D-369CE8A8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6D9-9A25-4D03-BE73-431259AD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E58-5E4F-4F13-9DE7-BE76FD87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F35-54A8-4F62-845F-60813F30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439-66F0-4002-BC27-6E70268E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2B4-D51C-45A1-AED9-2C174FAA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7FA-D4AB-4F99-BA97-32D587A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C01-F5AE-4BCB-BE3D-AC59CFC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28FBB-B679-40AC-AB8A-40EC49C9C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